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32.pct" ContentType="image/x-pict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138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44.png" ContentType="image/png"/>
  <Override PartName="/ppt/media/image130.png" ContentType="image/png"/>
  <Override PartName="/ppt/media/image45.png" ContentType="image/png"/>
  <Override PartName="/ppt/media/image131.png" ContentType="image/png"/>
  <Override PartName="/ppt/media/image47.png" ContentType="image/png"/>
  <Override PartName="/ppt/media/image109.png" ContentType="image/png"/>
  <Override PartName="/ppt/media/image151.png" ContentType="image/png"/>
  <Override PartName="/ppt/media/image155.png" ContentType="image/png"/>
  <Override PartName="/ppt/media/image33.png" ContentType="image/png"/>
  <Override PartName="/ppt/media/image156.png" ContentType="image/png"/>
  <Override PartName="/ppt/media/image34.png" ContentType="image/png"/>
  <Override PartName="/ppt/media/image157.png" ContentType="image/png"/>
  <Override PartName="/ppt/media/image60.png" ContentType="image/png"/>
  <Override PartName="/ppt/media/image35.png" ContentType="image/png"/>
  <Override PartName="/ppt/media/image158.png" ContentType="image/png"/>
  <Override PartName="/ppt/media/image5.jpeg" ContentType="image/jpeg"/>
  <Override PartName="/ppt/media/image61.png" ContentType="image/png"/>
  <Override PartName="/ppt/media/image160.png" ContentType="image/png"/>
  <Override PartName="/ppt/media/image36.png" ContentType="image/png"/>
  <Override PartName="/ppt/media/image159.png" ContentType="image/png"/>
  <Override PartName="/ppt/media/image62.png" ContentType="image/png"/>
  <Override PartName="/ppt/media/image161.png" ContentType="image/png"/>
  <Override PartName="/ppt/media/image162.png" ContentType="image/png"/>
  <Override PartName="/ppt/media/image152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33.png" ContentType="image/png"/>
  <Override PartName="/ppt/media/image163.pct" ContentType="image/x-pict"/>
  <Override PartName="/ppt/media/image166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10.png" ContentType="image/png"/>
  <Override PartName="/ppt/media/image107.png" ContentType="image/png"/>
  <Override PartName="/ppt/media/image153.png" ContentType="image/png"/>
  <Override PartName="/ppt/media/image1.png" ContentType="image/png"/>
  <Override PartName="/ppt/media/image38.png" ContentType="image/png"/>
  <Override PartName="/ppt/media/image39.png" ContentType="image/png"/>
  <Override PartName="/ppt/media/image6.pct" ContentType="image/x-pict"/>
  <Override PartName="/ppt/media/image128.png" ContentType="image/png"/>
  <Override PartName="/ppt/media/image32.png" ContentType="image/png"/>
  <Override PartName="/ppt/media/image129.png" ContentType="image/png"/>
  <Override PartName="/ppt/media/image7.pct" ContentType="image/x-pict"/>
  <Override PartName="/ppt/media/image70.png" ContentType="image/png"/>
  <Override PartName="/ppt/media/image154.png" ContentType="image/png"/>
  <Override PartName="/ppt/media/image2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2.png" ContentType="image/png"/>
  <Override PartName="/ppt/media/image80.png" ContentType="image/png"/>
  <Override PartName="/ppt/media/image31.png" ContentType="image/png"/>
  <Override PartName="/ppt/media/image9.png" ContentType="image/png"/>
  <Override PartName="/ppt/media/image13.png" ContentType="image/png"/>
  <Override PartName="/ppt/media/image81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86.png" ContentType="image/png"/>
  <Override PartName="/ppt/media/image18.png" ContentType="image/png"/>
  <Override PartName="/ppt/media/image15.png" ContentType="image/png"/>
  <Override PartName="/ppt/media/image8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21.png" ContentType="image/png"/>
  <Override PartName="/ppt/media/image148.pct" ContentType="image/x-pict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23.png" ContentType="image/png"/>
  <Override PartName="/ppt/media/image91.png" ContentType="image/png"/>
  <Override PartName="/ppt/media/image24.png" ContentType="image/png"/>
  <Override PartName="/ppt/media/image92.png" ContentType="image/png"/>
  <Override PartName="/ppt/media/image25.png" ContentType="image/png"/>
  <Override PartName="/ppt/media/image93.png" ContentType="image/png"/>
  <Override PartName="/ppt/media/image26.png" ContentType="image/png"/>
  <Override PartName="/ppt/media/image94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04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3848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2360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3104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3848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72F3-F991-478A-A455-E9C7A28866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F5E9-3B6D-4986-AA67-72BA9B1CF6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7B31-6BD9-4F34-8D3A-81623EABFF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FE9C-3EF1-4CFD-A39A-C5C82D6DE4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68F4-79FE-42C0-A851-A3CDA793F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3600" y="254160"/>
            <a:ext cx="1155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C50F-C386-4CF7-949E-B968BA3B28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4F1A-2202-438B-B002-9E597B2E5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ACE0-9A11-4EE2-80DC-671A6B3DB9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5A3D-0381-4A30-A832-5D8A12A1B4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A029-26DF-42FF-BC1D-1873F9487B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A531-FA9E-4D23-A026-98CC0069D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104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3848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360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3104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53848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D584-A503-44C6-8EE2-3BE499A208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BF53-353A-4A0B-898B-1AFA482D15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2F36-CD71-429B-801D-A8AE9DE92C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28E4C-D289-4CD5-B711-88EF6EAED0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A5D1-949C-4A28-91EF-68331BD09A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1EF6-6BA7-4476-A5AA-B2FDD8E454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23600" y="254160"/>
            <a:ext cx="1155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89EA-65A8-4BAD-86DE-2394A4CE61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7759-9386-42D6-9F23-8254053516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7E66-2ABC-4D21-8D5E-6490A60A1E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C18F-2DE3-45C8-B014-89E867FE2D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CF70-B105-4445-90D3-CD10976CAA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079A-07B4-4920-8F0F-C9CAF1A4EB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104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3848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2360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63104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3848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C521-069C-4690-82E0-17BE0DEE8F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55A-7460-44D5-B860-A6AAF76498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5A3-E31D-4EC7-B08E-4F414E07B7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8BD-403E-496B-8D4C-A33269247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83C-91DF-494A-8882-ECAED0300D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C0F-931B-432D-B0A9-AF28F725AB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23600" y="254160"/>
            <a:ext cx="1155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AB7-4C7B-4CE4-A6B9-1C5FA23DE0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CD3-1360-445A-9556-399954BC69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18E-6BA0-4B55-BB2A-5262F1053E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511-0055-4D00-B9EB-90E3E576D7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8BB-C403-42FB-9EA5-EF337DF172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205-44C4-4B64-B623-21120C7081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104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3848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72360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63104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53848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728-5FF1-4B9B-8E4D-21EF3BD838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2975A-57AB-4FDE-A7D9-A2C4B258A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C3096-0EDC-4F91-B2D6-F2ECDB851C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C43E9-E637-4E83-A147-CE5A34596E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EAB3F-69B6-4730-9127-E02793240C4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68B11-BBEA-4984-AFB7-CBBCCA5543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23600" y="254160"/>
            <a:ext cx="1155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B80DF-B674-406E-B5A1-943D13E917B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0550E-887F-46EB-A125-AE03A7DB694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AF213-4782-45F8-B89C-D1CFE2F0AD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B09C4-DF11-4173-899B-A8691885E6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C91B5-E453-4EA8-81EB-5E68FFDE23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1F56C-4269-4A3C-A4BB-BC6FB2151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3600" y="254160"/>
            <a:ext cx="1155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104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53848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2360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63104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53848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F3BB4-8B8E-4373-B0FA-DA6F23DDE9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23600" y="254160"/>
            <a:ext cx="1155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104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53848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2360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63104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53848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723600" y="254160"/>
            <a:ext cx="11557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45600" y="525312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3104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538480" y="120636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2360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63104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538480" y="5253120"/>
            <a:ext cx="37209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5600" y="1206360"/>
            <a:ext cx="563976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3600" y="5253120"/>
            <a:ext cx="11557080" cy="369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4600" y="8636040"/>
            <a:ext cx="852480" cy="95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Click to edit the title text format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84280" indent="-50796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092240" indent="-38088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536840" indent="-38124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981080" indent="-38088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2425680" indent="-38088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2425680" indent="-380880">
              <a:spcBef>
                <a:spcPts val="14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2425680" indent="-380880">
              <a:spcBef>
                <a:spcPts val="14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74600" y="8636040"/>
            <a:ext cx="852480" cy="952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3"/>
          <p:cNvSpPr>
            <a:spLocks noGrp="1"/>
          </p:cNvSpPr>
          <p:nvPr>
            <p:ph type="sldNum" idx="1"/>
          </p:nvPr>
        </p:nvSpPr>
        <p:spPr>
          <a:xfrm>
            <a:off x="12369960" y="91054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158C-D0EF-4CB4-8DFD-D5D4EF9111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Click to edit the title text format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502320" y="1206360"/>
            <a:ext cx="577872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78160" indent="-50256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081080" indent="-37692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521360" indent="-37728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960920" indent="-37692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2401200" indent="-37692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2401200" indent="-376920">
              <a:spcBef>
                <a:spcPts val="14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2401200" indent="-376920">
              <a:spcBef>
                <a:spcPts val="14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4600" y="8636040"/>
            <a:ext cx="852480" cy="952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3"/>
          <p:cNvSpPr>
            <a:spLocks noGrp="1"/>
          </p:cNvSpPr>
          <p:nvPr>
            <p:ph type="sldNum" idx="2"/>
          </p:nvPr>
        </p:nvSpPr>
        <p:spPr>
          <a:xfrm>
            <a:off x="12369960" y="91054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2087-4CE4-42B1-954C-55E4690F58F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Click to edit the title text format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4600" y="8636040"/>
            <a:ext cx="852480" cy="952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sldNum" idx="3"/>
          </p:nvPr>
        </p:nvSpPr>
        <p:spPr>
          <a:xfrm>
            <a:off x="12369960" y="91054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57BA-510F-4CC1-A2B1-04C85D07DA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Click to edit the title text format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23600" y="1206360"/>
            <a:ext cx="577836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78160" indent="-50256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081080" indent="-37692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521360" indent="-37728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960920" indent="-37692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2401200" indent="-376920"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2401200" indent="-376920">
              <a:spcBef>
                <a:spcPts val="14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2401200" indent="-376920">
              <a:spcBef>
                <a:spcPts val="14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4600" y="8636040"/>
            <a:ext cx="852480" cy="952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 type="sldNum" idx="4"/>
          </p:nvPr>
        </p:nvSpPr>
        <p:spPr>
          <a:xfrm>
            <a:off x="12369960" y="910548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F9BC-E62A-473C-B2AA-97B2D1FDDD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0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ct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0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image" Target="../media/image84.png"/><Relationship Id="rId11" Type="http://schemas.openxmlformats.org/officeDocument/2006/relationships/image" Target="../media/image85.png"/><Relationship Id="rId1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image" Target="../media/image91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2.png"/><Relationship Id="rId3" Type="http://schemas.openxmlformats.org/officeDocument/2006/relationships/image" Target="../media/image68.png"/><Relationship Id="rId4" Type="http://schemas.openxmlformats.org/officeDocument/2006/relationships/image" Target="../media/image84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image" Target="../media/image99.png"/><Relationship Id="rId11" Type="http://schemas.openxmlformats.org/officeDocument/2006/relationships/image" Target="../media/image100.png"/><Relationship Id="rId12" Type="http://schemas.openxmlformats.org/officeDocument/2006/relationships/image" Target="../media/image101.png"/><Relationship Id="rId13" Type="http://schemas.openxmlformats.org/officeDocument/2006/relationships/image" Target="../media/image102.png"/><Relationship Id="rId14" Type="http://schemas.openxmlformats.org/officeDocument/2006/relationships/image" Target="../media/image103.png"/><Relationship Id="rId15" Type="http://schemas.openxmlformats.org/officeDocument/2006/relationships/image" Target="../media/image104.png"/><Relationship Id="rId16" Type="http://schemas.openxmlformats.org/officeDocument/2006/relationships/image" Target="../media/image105.png"/><Relationship Id="rId17" Type="http://schemas.openxmlformats.org/officeDocument/2006/relationships/image" Target="../media/image106.png"/><Relationship Id="rId18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image" Target="../media/image113.png"/><Relationship Id="rId7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4.png"/><Relationship Id="rId4" Type="http://schemas.openxmlformats.org/officeDocument/2006/relationships/image" Target="../media/image116.png"/><Relationship Id="rId5" Type="http://schemas.openxmlformats.org/officeDocument/2006/relationships/image" Target="../media/image112.png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19.png"/><Relationship Id="rId9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16.png"/><Relationship Id="rId3" Type="http://schemas.openxmlformats.org/officeDocument/2006/relationships/image" Target="../media/image120.png"/><Relationship Id="rId4" Type="http://schemas.openxmlformats.org/officeDocument/2006/relationships/image" Target="../media/image121.png"/><Relationship Id="rId5" Type="http://schemas.openxmlformats.org/officeDocument/2006/relationships/image" Target="../media/image114.png"/><Relationship Id="rId6" Type="http://schemas.openxmlformats.org/officeDocument/2006/relationships/image" Target="../media/image117.png"/><Relationship Id="rId7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29.png"/><Relationship Id="rId4" Type="http://schemas.openxmlformats.org/officeDocument/2006/relationships/image" Target="../media/image130.png"/><Relationship Id="rId5" Type="http://schemas.openxmlformats.org/officeDocument/2006/relationships/image" Target="../media/image131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2.pct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135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image" Target="../media/image139.png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41.png"/><Relationship Id="rId3" Type="http://schemas.openxmlformats.org/officeDocument/2006/relationships/image" Target="../media/image142.png"/><Relationship Id="rId4" Type="http://schemas.openxmlformats.org/officeDocument/2006/relationships/image" Target="../media/image143.png"/><Relationship Id="rId5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image" Target="../media/image145.png"/><Relationship Id="rId3" Type="http://schemas.openxmlformats.org/officeDocument/2006/relationships/image" Target="../media/image146.png"/><Relationship Id="rId4" Type="http://schemas.openxmlformats.org/officeDocument/2006/relationships/image" Target="../media/image147.png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148.pct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148.pct"/><Relationship Id="rId3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image" Target="../media/image134.png"/><Relationship Id="rId3" Type="http://schemas.openxmlformats.org/officeDocument/2006/relationships/image" Target="../media/image150.png"/><Relationship Id="rId4" Type="http://schemas.openxmlformats.org/officeDocument/2006/relationships/image" Target="../media/image151.png"/><Relationship Id="rId5" Type="http://schemas.openxmlformats.org/officeDocument/2006/relationships/image" Target="../media/image152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3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50.png"/><Relationship Id="rId3" Type="http://schemas.openxmlformats.org/officeDocument/2006/relationships/image" Target="../media/image151.png"/><Relationship Id="rId4" Type="http://schemas.openxmlformats.org/officeDocument/2006/relationships/image" Target="../media/image156.png"/><Relationship Id="rId5" Type="http://schemas.openxmlformats.org/officeDocument/2006/relationships/image" Target="../media/image157.png"/><Relationship Id="rId6" Type="http://schemas.openxmlformats.org/officeDocument/2006/relationships/image" Target="../media/image158.png"/><Relationship Id="rId7" Type="http://schemas.openxmlformats.org/officeDocument/2006/relationships/image" Target="../media/image159.png"/><Relationship Id="rId8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61.png"/><Relationship Id="rId3" Type="http://schemas.openxmlformats.org/officeDocument/2006/relationships/image" Target="../media/image162.png"/><Relationship Id="rId4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3.pct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3.pct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4.png"/><Relationship Id="rId2" Type="http://schemas.openxmlformats.org/officeDocument/2006/relationships/image" Target="../media/image165.png"/><Relationship Id="rId3" Type="http://schemas.openxmlformats.org/officeDocument/2006/relationships/image" Target="../media/image166.png"/><Relationship Id="rId4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120600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e16e23"/>
                </a:solidFill>
                <a:latin typeface="Gill Sans"/>
              </a:rPr>
              <a:t>Symmetry reduction for</a:t>
            </a:r>
            <a:br>
              <a:rPr sz="5600"/>
            </a:br>
            <a:r>
              <a:rPr b="0" lang="en-US" sz="5600" spc="-1" strike="noStrike">
                <a:solidFill>
                  <a:srgbClr val="e16e23"/>
                </a:solidFill>
                <a:latin typeface="Gill Sans"/>
              </a:rPr>
              <a:t>low-dimensional models of</a:t>
            </a:r>
            <a:br>
              <a:rPr sz="5600"/>
            </a:br>
            <a:r>
              <a:rPr b="0" lang="en-US" sz="5600" spc="-1" strike="noStrike">
                <a:solidFill>
                  <a:srgbClr val="e16e23"/>
                </a:solidFill>
                <a:latin typeface="Gill Sans"/>
              </a:rPr>
              <a:t>self-similar fluid flows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313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ancy Rowle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22 July 2008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Oberwolfach, Germany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864640" y="7756560"/>
            <a:ext cx="410220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Energy-based inner product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826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3000"/>
          </a:bodyPr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ider a system with a stable equilibrium point at the origin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ider an inner product whose induced norm is a Liapunov function (“energy-based”)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duced-order dynamics given by orthogonal proje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n V is a Liapunov function for the reduced-order system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: if an energy-based inner product is used, the origin is stable for the reduced-order system, regardless of the subspace used for the proje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720960" y="1854360"/>
            <a:ext cx="5550120" cy="419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346040" y="3530520"/>
            <a:ext cx="4267440" cy="470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6210360" y="3251160"/>
            <a:ext cx="6134040" cy="469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6197760" y="3772080"/>
            <a:ext cx="5524200" cy="4824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3238560" y="4991040"/>
            <a:ext cx="1752480" cy="1054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6426360" y="5029200"/>
            <a:ext cx="1269720" cy="368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6299280" y="5600880"/>
            <a:ext cx="2870280" cy="419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9766440" y="5575320"/>
            <a:ext cx="1942920" cy="4446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9"/>
          <a:stretch/>
        </p:blipFill>
        <p:spPr>
          <a:xfrm>
            <a:off x="3276720" y="6958080"/>
            <a:ext cx="7975440" cy="105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B791-48F4-4B96-B6A4-8F5C0FE960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Balanced truncation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23600" y="1206000"/>
            <a:ext cx="11557080" cy="839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501480" indent="-40104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inear time-invariant input-output syste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01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01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902880" indent="-3006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mpute controllability and observability Gramia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2880" indent="-3006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nd coordinates in which W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and W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are equal and diagona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2880" indent="-3006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runcate states that are least controllable/observab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2880" indent="-3006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et a priori error bounds on the reduced order model, close to the best possible from any model reduction metho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02880" indent="-3006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show that balanced truncation is equivalent to POD of impulse-state response data, using the observability Gramian as an inner produc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105520" y="1917720"/>
            <a:ext cx="2793960" cy="1295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0372320" y="610560"/>
            <a:ext cx="190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Moore (1981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650960" y="4051440"/>
            <a:ext cx="4356000" cy="9396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6985080" y="4051440"/>
            <a:ext cx="4343400" cy="9396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660320" y="5182560"/>
            <a:ext cx="431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ffect of input u on the state 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"/>
          <p:cNvSpPr/>
          <p:nvPr/>
        </p:nvSpPr>
        <p:spPr>
          <a:xfrm>
            <a:off x="6620400" y="5182560"/>
            <a:ext cx="506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ffect of state x on future outputs 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"/>
          <p:cNvSpPr/>
          <p:nvPr/>
        </p:nvSpPr>
        <p:spPr>
          <a:xfrm>
            <a:off x="5637240" y="9106920"/>
            <a:ext cx="367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CWR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Int J Bif Chao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(2005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CED2-7A9F-46A4-8661-6E785427246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Example: linearized channel flow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marL="425160" indent="-3402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inearized channel flow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-254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eriodic boundary conditions in x and z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-254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Linearize Navier-Stokes about a steady laminar solu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65720" indent="-254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Very well-studied system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63440" indent="-2552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n-normality, large transient growth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"/>
          <p:cNvSpPr/>
          <p:nvPr/>
        </p:nvSpPr>
        <p:spPr>
          <a:xfrm>
            <a:off x="2588760" y="8027280"/>
            <a:ext cx="1599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refethen et al [Science, 1993]Farrell &amp; Ioannou [96,96,01]Schmid &amp; Henningson [01]Bamieh &amp; Jovanovic [01,03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0" y="425520"/>
            <a:ext cx="7504200" cy="3681360"/>
            <a:chOff x="0" y="425520"/>
            <a:chExt cx="7504200" cy="3681360"/>
          </a:xfrm>
        </p:grpSpPr>
        <p:sp>
          <p:nvSpPr>
            <p:cNvPr id="379" name=""/>
            <p:cNvSpPr/>
            <p:nvPr/>
          </p:nvSpPr>
          <p:spPr>
            <a:xfrm>
              <a:off x="3186000" y="3751200"/>
              <a:ext cx="4318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100000"/>
                </a:lnSpc>
                <a:spcBef>
                  <a:spcPts val="13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r-Sommerfeld/Squire sys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0" y="425520"/>
              <a:ext cx="546876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"/>
            <a:stretch/>
          </p:blipFill>
          <p:spPr>
            <a:xfrm>
              <a:off x="1015920" y="1339920"/>
              <a:ext cx="3441960" cy="116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2577960" y="6527880"/>
            <a:ext cx="3429000" cy="876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10655280" y="3035160"/>
            <a:ext cx="1892160" cy="3938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8813880" y="4102200"/>
            <a:ext cx="2692440" cy="368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8813880" y="4546440"/>
            <a:ext cx="1371600" cy="3556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7"/>
          <a:stretch/>
        </p:blipFill>
        <p:spPr>
          <a:xfrm>
            <a:off x="8877240" y="1054080"/>
            <a:ext cx="3746520" cy="13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2657-EB56-4FB2-BA68-3A022FBBF23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POD models of channel flow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3800" y="1752120"/>
            <a:ext cx="6032520" cy="219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rst 5 modes contain over 99.7% of energ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rst 10 modes contain over 99.9% of energ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0" y="291960"/>
            <a:ext cx="5345280" cy="7012080"/>
            <a:chOff x="0" y="291960"/>
            <a:chExt cx="5345280" cy="7012080"/>
          </a:xfrm>
        </p:grpSpPr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0" y="291960"/>
              <a:ext cx="492768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068560" y="6899400"/>
              <a:ext cx="905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49560" y="7304040"/>
              <a:ext cx="885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00560" y="6851520"/>
              <a:ext cx="19447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Verdana"/>
                </a:rPr>
                <a:t>OP10, 99.9%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14600" y="6446880"/>
              <a:ext cx="19465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Verdana"/>
                </a:rPr>
                <a:t>OP5, 99.72%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60480" y="4394160"/>
              <a:ext cx="2830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D eigenvalues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9309240" y="4533840"/>
            <a:ext cx="2438280" cy="13176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182160" y="6130800"/>
            <a:ext cx="2438280" cy="13194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375240" y="4140360"/>
            <a:ext cx="5973840" cy="4485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0199880" y="7490160"/>
            <a:ext cx="657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t=14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9990000" y="5762880"/>
            <a:ext cx="817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t=160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8309520" y="3464280"/>
            <a:ext cx="2099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initial conditi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"/>
          <p:cNvSpPr/>
          <p:nvPr/>
        </p:nvSpPr>
        <p:spPr>
          <a:xfrm>
            <a:off x="7759800" y="4457880"/>
            <a:ext cx="1641240" cy="5839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213680" y="6870240"/>
            <a:ext cx="1884240" cy="7635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7353360" y="1066680"/>
            <a:ext cx="4037040" cy="21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0203-4D29-4689-8B70-52DF8E7AD0A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600" y="-178200"/>
            <a:ext cx="121284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POD model performance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173400" y="1477800"/>
            <a:ext cx="6678720" cy="5029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707080" y="1978200"/>
            <a:ext cx="3492360" cy="13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 rot="20715000">
            <a:off x="5848200" y="1968120"/>
            <a:ext cx="368280" cy="179064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099040" y="1814400"/>
            <a:ext cx="4397400" cy="3302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flipV="1">
            <a:off x="4780800" y="3581280"/>
            <a:ext cx="1312920" cy="22291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4946760" y="1441440"/>
            <a:ext cx="361944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Energy growth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0" y="0"/>
            <a:ext cx="2844720" cy="4481640"/>
            <a:chOff x="0" y="0"/>
            <a:chExt cx="2844720" cy="4481640"/>
          </a:xfrm>
        </p:grpSpPr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844720" cy="15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1490760"/>
              <a:ext cx="2844720" cy="15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5"/>
            <a:stretch/>
          </p:blipFill>
          <p:spPr>
            <a:xfrm>
              <a:off x="0" y="2979720"/>
              <a:ext cx="2844720" cy="15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4859280" y="2263680"/>
            <a:ext cx="7710480" cy="2781720"/>
            <a:chOff x="4859280" y="2263680"/>
            <a:chExt cx="7710480" cy="2781720"/>
          </a:xfrm>
        </p:grpSpPr>
        <p:sp>
          <p:nvSpPr>
            <p:cNvPr id="417" name=""/>
            <p:cNvSpPr/>
            <p:nvPr/>
          </p:nvSpPr>
          <p:spPr>
            <a:xfrm rot="5400000">
              <a:off x="7292160" y="3956400"/>
              <a:ext cx="254160" cy="190440"/>
            </a:xfrm>
            <a:prstGeom prst="ellipse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064840" y="4162680"/>
              <a:ext cx="2260440" cy="546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6289560" y="2835360"/>
              <a:ext cx="1023840" cy="106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1200" y="2765520"/>
              <a:ext cx="6606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+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6"/>
            <a:stretch/>
          </p:blipFill>
          <p:spPr>
            <a:xfrm>
              <a:off x="4859280" y="2263680"/>
              <a:ext cx="286236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0166040" y="4588200"/>
              <a:ext cx="240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OD mode 10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4000" y="3484440"/>
            <a:ext cx="7759080" cy="3645720"/>
            <a:chOff x="4734000" y="3484440"/>
            <a:chExt cx="7759080" cy="3645720"/>
          </a:xfrm>
        </p:grpSpPr>
        <p:sp>
          <p:nvSpPr>
            <p:cNvPr id="424" name=""/>
            <p:cNvSpPr/>
            <p:nvPr/>
          </p:nvSpPr>
          <p:spPr>
            <a:xfrm rot="5400000">
              <a:off x="8405640" y="4256640"/>
              <a:ext cx="242640" cy="2001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145120" y="4405320"/>
              <a:ext cx="3273840" cy="109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7575840" y="4117680"/>
              <a:ext cx="85752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17400" y="3484440"/>
              <a:ext cx="5713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+</a:t>
              </a: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7"/>
            <a:stretch/>
          </p:blipFill>
          <p:spPr>
            <a:xfrm>
              <a:off x="4734000" y="3664080"/>
              <a:ext cx="284472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0105200" y="6685560"/>
              <a:ext cx="23878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OD mode 17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0" y="0"/>
            <a:ext cx="12835080" cy="2984400"/>
            <a:chOff x="0" y="0"/>
            <a:chExt cx="12835080" cy="2984400"/>
          </a:xfrm>
        </p:grpSpPr>
        <p:grpSp>
          <p:nvGrpSpPr>
            <p:cNvPr id="431" name=""/>
            <p:cNvGrpSpPr/>
            <p:nvPr/>
          </p:nvGrpSpPr>
          <p:grpSpPr>
            <a:xfrm>
              <a:off x="0" y="0"/>
              <a:ext cx="2844720" cy="2984400"/>
              <a:chOff x="0" y="0"/>
              <a:chExt cx="2844720" cy="2984400"/>
            </a:xfrm>
          </p:grpSpPr>
          <p:pic>
            <p:nvPicPr>
              <p:cNvPr id="43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2844720" cy="150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482840"/>
                <a:ext cx="2844720" cy="150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4" name=""/>
            <p:cNvSpPr/>
            <p:nvPr/>
          </p:nvSpPr>
          <p:spPr>
            <a:xfrm>
              <a:off x="9863280" y="1073160"/>
              <a:ext cx="29718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POD modes 4-5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87280" y="1263600"/>
            <a:ext cx="29718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POD modes 1-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282680" y="6692760"/>
            <a:ext cx="7823160" cy="2146320"/>
            <a:chOff x="1282680" y="6692760"/>
            <a:chExt cx="7823160" cy="2146320"/>
          </a:xfrm>
        </p:grpSpPr>
        <p:sp>
          <p:nvSpPr>
            <p:cNvPr id="437" name=""/>
            <p:cNvSpPr/>
            <p:nvPr/>
          </p:nvSpPr>
          <p:spPr>
            <a:xfrm>
              <a:off x="1282680" y="6692760"/>
              <a:ext cx="7823160" cy="2146320"/>
            </a:xfrm>
            <a:prstGeom prst="rect">
              <a:avLst/>
            </a:prstGeom>
            <a:solidFill>
              <a:srgbClr val="eae7d3"/>
            </a:solidFill>
            <a:ln w="25560">
              <a:solidFill>
                <a:srgbClr val="000000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434960" y="6997680"/>
              <a:ext cx="74422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ome low-energy POD modes are very important for the system dynamics.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an’t naively use just the most energetic ones</a:t>
              </a:r>
              <a:endParaRPr b="0" lang="en-US" sz="3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DBC6-AF17-44E6-AB4A-8EF5750E89C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44600" y="127080"/>
            <a:ext cx="12128400" cy="157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Balanced truncation model performance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6337440"/>
            <a:ext cx="10464840" cy="270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482400" indent="-3859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ree-mode balanced truncation model excellent at capturing the energy growth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2400" indent="-3859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ank 8 balanced truncation sufficient to correctly capture the dynamics of the first five POD modes, compared to at least 23 POD modes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2400" indent="-3859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clusion of some POD modes significantly deteriorates performance (splitting of the pairs of oscillating modes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131760"/>
            <a:ext cx="11552040" cy="4616280"/>
            <a:chOff x="0" y="131760"/>
            <a:chExt cx="11552040" cy="461628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0" y="131760"/>
              <a:ext cx="6129360" cy="46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130880" y="1574640"/>
              <a:ext cx="4421160" cy="47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rror 2-norms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835760" y="3708360"/>
            <a:ext cx="211320" cy="86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"/>
          <p:cNvSpPr/>
          <p:nvPr/>
        </p:nvSpPr>
        <p:spPr>
          <a:xfrm>
            <a:off x="9283680" y="3784680"/>
            <a:ext cx="193680" cy="92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9047880" y="4702680"/>
            <a:ext cx="933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ank 23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7711200" y="4563000"/>
            <a:ext cx="777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ank 8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2566080" y="1654560"/>
            <a:ext cx="1802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ergy growth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457200" y="1727280"/>
            <a:ext cx="5997600" cy="44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5D45-3CDB-48E1-8C85-490A6E5445D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Outline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odel reduc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alerkin proje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oper Orthogonal Decomposi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Balanced trun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linearized channel flow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ymmetry reduction using template fitt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presenting the quotient space using sl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ynamics on the sli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construction equ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free shear laye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8077320" y="2006640"/>
            <a:ext cx="3746520" cy="13618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rcRect l="7089" t="3642" r="1151" b="0"/>
          <a:stretch/>
        </p:blipFill>
        <p:spPr>
          <a:xfrm>
            <a:off x="8377200" y="5905440"/>
            <a:ext cx="315432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369B-D985-4BC9-B0B0-EC870E66059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odel reduction for self-similar problem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23600" y="1206000"/>
            <a:ext cx="11557080" cy="831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marL="444240" indent="-3553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Naive projection onto modes works poorl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-2664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eed many modes even to capture simple phenomena such as pure self-similar evolu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-2664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Better to let the modes scal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-2664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ther examples: traveling wav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99920" indent="-2664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o this in a systematic, general wa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219320" y="3454560"/>
            <a:ext cx="4343400" cy="1218960"/>
          </a:xfrm>
          <a:prstGeom prst="rect">
            <a:avLst/>
          </a:prstGeom>
          <a:ln w="0">
            <a:noFill/>
          </a:ln>
        </p:spPr>
      </p:pic>
      <p:pic>
        <p:nvPicPr>
          <p:cNvPr id="457" name="Rowley MFO talk.ppt_media/shlayer-5.mov" descr=""/>
          <p:cNvPicPr/>
          <p:nvPr/>
        </p:nvPicPr>
        <p:blipFill>
          <a:blip r:embed="rId2"/>
          <a:stretch/>
        </p:blipFill>
        <p:spPr>
          <a:xfrm>
            <a:off x="6921360" y="2546280"/>
            <a:ext cx="4889520" cy="36766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060720" y="5956200"/>
            <a:ext cx="4940280" cy="12193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2832120" y="7543800"/>
            <a:ext cx="5410080" cy="1219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8559720" y="7061040"/>
            <a:ext cx="408960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6114-17BA-4EF1-9610-D4976A6A9C2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Setting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23600" y="1206000"/>
            <a:ext cx="1155708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450720" indent="-3603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ynamics on 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5072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5072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-2703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oup G acts on M (action is free and proper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-2703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ymmetry: equivariance of f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-2703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et well-defined dynamics on the quotient space M/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11440" indent="-2703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Question: for general M, G, how to parameterize M/G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27160" indent="-2703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ere, use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</a:rPr>
              <a:t>slices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</a:rPr>
              <a:t>template fitt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146320" y="2197080"/>
            <a:ext cx="1790640" cy="5205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2095560" y="4064040"/>
            <a:ext cx="2641680" cy="507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397480" y="2235240"/>
            <a:ext cx="1333440" cy="3938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5460840" y="4000680"/>
            <a:ext cx="1181160" cy="4698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"/>
          <a:stretch/>
        </p:blipFill>
        <p:spPr>
          <a:xfrm>
            <a:off x="10159920" y="2120760"/>
            <a:ext cx="1816200" cy="3812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7201080" y="7620120"/>
            <a:ext cx="2565360" cy="5205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7"/>
          <a:stretch/>
        </p:blipFill>
        <p:spPr>
          <a:xfrm>
            <a:off x="7416720" y="6985080"/>
            <a:ext cx="2146320" cy="5205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8"/>
          <a:stretch/>
        </p:blipFill>
        <p:spPr>
          <a:xfrm>
            <a:off x="10172880" y="2895480"/>
            <a:ext cx="2031840" cy="4064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8106840" y="2121840"/>
            <a:ext cx="208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uler-Poinca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>
            <a:off x="8224920" y="2909160"/>
            <a:ext cx="162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Lie-Pois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4779360" y="7011360"/>
            <a:ext cx="208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uler-Poinca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5011920" y="7582680"/>
            <a:ext cx="162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Lie-Pois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9"/>
          <a:stretch/>
        </p:blipFill>
        <p:spPr>
          <a:xfrm>
            <a:off x="2298600" y="5715000"/>
            <a:ext cx="34545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6C70-BB30-4B19-B035-C0A787A20CA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Self-similar dynamic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23600" y="1206000"/>
            <a:ext cx="1155708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3000"/>
          </a:bodyPr>
          <a:p>
            <a:pPr marL="463320" indent="-3708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ynamics on 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6332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odified equivariance of f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rit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quations becom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Key idea: define    such that r evolves in a subspace that is locally isomorphic to M/G (a slice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146320" y="2197080"/>
            <a:ext cx="1790640" cy="5205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397480" y="2235240"/>
            <a:ext cx="1333440" cy="3938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2146320" y="3924360"/>
            <a:ext cx="4444920" cy="5335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7429680" y="4191120"/>
            <a:ext cx="3822480" cy="4442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7074000" y="3746520"/>
            <a:ext cx="5207040" cy="3938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2171880" y="5359320"/>
            <a:ext cx="3403440" cy="5209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7"/>
          <a:stretch/>
        </p:blipFill>
        <p:spPr>
          <a:xfrm>
            <a:off x="6997680" y="5359320"/>
            <a:ext cx="2514600" cy="5209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8"/>
          <a:stretch/>
        </p:blipFill>
        <p:spPr>
          <a:xfrm>
            <a:off x="2197080" y="6934320"/>
            <a:ext cx="3645000" cy="5205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9"/>
          <a:stretch/>
        </p:blipFill>
        <p:spPr>
          <a:xfrm>
            <a:off x="7277040" y="6921360"/>
            <a:ext cx="2603520" cy="5461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0"/>
          <a:stretch/>
        </p:blipFill>
        <p:spPr>
          <a:xfrm>
            <a:off x="4394160" y="7924680"/>
            <a:ext cx="216000" cy="3938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1"/>
          <a:stretch/>
        </p:blipFill>
        <p:spPr>
          <a:xfrm>
            <a:off x="7048440" y="5842080"/>
            <a:ext cx="1295640" cy="3934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855520" y="9106920"/>
            <a:ext cx="728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CWR, Kevrekidis, Marsden, Lust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Nonlinearit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(2003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1068-AECC-4BFB-A929-D73587B3A7F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Acknowledgement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507960" indent="-40608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3045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ingjun Wei (free shear flow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w at NMSU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3045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ilos Ilak (channel flow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aduate studen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3045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unil Ahuja (contro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aduate studen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14400" indent="-3045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llaborator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04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Yannis Kevrekidis (Princeton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04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Jerry Marsde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9103" t="9815" r="930" b="18723"/>
          <a:stretch/>
        </p:blipFill>
        <p:spPr>
          <a:xfrm>
            <a:off x="7213680" y="2195640"/>
            <a:ext cx="1612800" cy="1741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rcRect l="36118" t="0" r="31839" b="42234"/>
          <a:stretch/>
        </p:blipFill>
        <p:spPr>
          <a:xfrm>
            <a:off x="7294680" y="6099120"/>
            <a:ext cx="1460520" cy="1685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43441" t="12290" r="32031" b="48338"/>
          <a:stretch/>
        </p:blipFill>
        <p:spPr>
          <a:xfrm>
            <a:off x="7321680" y="4159080"/>
            <a:ext cx="1396800" cy="168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42E5-C8A9-4509-B277-32BE6A2F7F5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Slices and template fitting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5892840" cy="826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558720" indent="-4467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lic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005840" indent="-3351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onsider the set of function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          that are (locally) aligned with a template fun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05840" indent="-3351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Letting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s becom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0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05840" indent="-3351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e slice at r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is defined as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879560" y="2451240"/>
            <a:ext cx="1079640" cy="3301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416400" y="3314880"/>
            <a:ext cx="1244520" cy="3808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2120760" y="3873600"/>
            <a:ext cx="4445280" cy="9903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7966080" y="1625760"/>
            <a:ext cx="4826160" cy="30225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6934320" y="4102200"/>
            <a:ext cx="1396800" cy="4442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3174840" y="5410080"/>
            <a:ext cx="2057400" cy="4446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2755800" y="6426360"/>
            <a:ext cx="4102200" cy="5205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313280" y="8820000"/>
            <a:ext cx="871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and contains all functions (locally) aligned with r</a:t>
            </a:r>
            <a:r>
              <a:rPr b="0" lang="en-US" sz="3000" spc="-1" strike="noStrike" baseline="-6000">
                <a:solidFill>
                  <a:srgbClr val="000000"/>
                </a:solidFill>
                <a:latin typeface="Gill Sans"/>
                <a:ea typeface="Gill Sans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8"/>
          <a:stretch/>
        </p:blipFill>
        <p:spPr>
          <a:xfrm>
            <a:off x="2616120" y="7873920"/>
            <a:ext cx="8674200" cy="7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E44E-324D-49E2-A598-2A11E53E0A3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4000"/>
          </a:bodyPr>
          <a:p>
            <a:pPr marL="406080" indent="-32508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ynamics in the scaled frame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06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06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-2437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lve for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31520" indent="-2437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ubstitute into dynamics for 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Dynamics on the slice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115480" y="2400480"/>
            <a:ext cx="3403440" cy="5205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111480" y="2184480"/>
            <a:ext cx="3645000" cy="5205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8102520" y="1828800"/>
            <a:ext cx="1790640" cy="5205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3492360" y="3416400"/>
            <a:ext cx="216000" cy="3934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1689120" y="4876920"/>
            <a:ext cx="3809880" cy="3934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1981080" y="4216320"/>
            <a:ext cx="3213360" cy="5209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5764320" y="4280040"/>
            <a:ext cx="6800760" cy="35049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8"/>
          <a:stretch/>
        </p:blipFill>
        <p:spPr>
          <a:xfrm>
            <a:off x="10604520" y="6172200"/>
            <a:ext cx="368280" cy="2793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8915400" y="6006960"/>
            <a:ext cx="368280" cy="2797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0"/>
          <a:stretch/>
        </p:blipFill>
        <p:spPr>
          <a:xfrm>
            <a:off x="10503000" y="4013280"/>
            <a:ext cx="838080" cy="3175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1"/>
          <a:stretch/>
        </p:blipFill>
        <p:spPr>
          <a:xfrm>
            <a:off x="8724960" y="4127400"/>
            <a:ext cx="838080" cy="3175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2"/>
          <a:stretch/>
        </p:blipFill>
        <p:spPr>
          <a:xfrm>
            <a:off x="7137360" y="4673520"/>
            <a:ext cx="889200" cy="444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3"/>
          <a:stretch/>
        </p:blipFill>
        <p:spPr>
          <a:xfrm>
            <a:off x="6997680" y="5816520"/>
            <a:ext cx="1155600" cy="4446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4"/>
          <a:stretch/>
        </p:blipFill>
        <p:spPr>
          <a:xfrm>
            <a:off x="8953560" y="6438960"/>
            <a:ext cx="711000" cy="4446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5"/>
          <a:stretch/>
        </p:blipFill>
        <p:spPr>
          <a:xfrm>
            <a:off x="9944280" y="4660920"/>
            <a:ext cx="2997000" cy="4446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6"/>
          <a:stretch/>
        </p:blipFill>
        <p:spPr>
          <a:xfrm>
            <a:off x="8585280" y="4863960"/>
            <a:ext cx="1168200" cy="4446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7"/>
          <a:stretch/>
        </p:blipFill>
        <p:spPr>
          <a:xfrm>
            <a:off x="3327480" y="8686800"/>
            <a:ext cx="5549760" cy="52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7FA9-C798-46E3-B8F0-F543484084B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2556000" y="1689120"/>
            <a:ext cx="7896240" cy="61088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269720" y="1294920"/>
            <a:ext cx="1046484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3000"/>
          </a:bodyPr>
          <a:p>
            <a:pPr marL="399960" indent="-31968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volution history of thickness for temporal shear layer (spatially periodic)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99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99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99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99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99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99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99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9960" indent="-31968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odel initial linear growth, saturation, pairing, and eventual viscous diffus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odeling free shear layer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1846440" y="4679640"/>
            <a:ext cx="2009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16e23"/>
                </a:solidFill>
                <a:latin typeface="Gill Sans"/>
                <a:ea typeface="Gill Sans"/>
              </a:rPr>
              <a:t>linear growth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2984400" y="2368440"/>
            <a:ext cx="1536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16e23"/>
                </a:solidFill>
                <a:latin typeface="Gill Sans"/>
                <a:ea typeface="Gill Sans"/>
              </a:rPr>
              <a:t>saturation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5101920" y="2800080"/>
            <a:ext cx="106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16e23"/>
                </a:solidFill>
                <a:latin typeface="Gill Sans"/>
                <a:ea typeface="Gill Sans"/>
              </a:rPr>
              <a:t>pairing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6375240" y="4679640"/>
            <a:ext cx="1536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16e23"/>
                </a:solidFill>
                <a:latin typeface="Gill Sans"/>
                <a:ea typeface="Gill Sans"/>
              </a:rPr>
              <a:t>saturation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8579520" y="2927160"/>
            <a:ext cx="248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16e23"/>
                </a:solidFill>
                <a:latin typeface="Gill Sans"/>
                <a:ea typeface="Gill Sans"/>
              </a:rPr>
              <a:t>viscous diffusion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099480" y="7115760"/>
            <a:ext cx="793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  <a:ea typeface="Gill Sans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FE21-E3A0-494A-8BA2-2815003A68C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ethodology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cale POD modes dynamically in y direction to account for shear layer spread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caling invariants: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ivergence of velocity fiel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ner produc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Key idea: template fitt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ain result: an equation for the shear layer spreading rate</a:t>
            </a:r>
            <a:r>
              <a:rPr b="0" lang="en-US" sz="3600" spc="-1" strike="noStrike">
                <a:solidFill>
                  <a:srgbClr val="008000"/>
                </a:solidFill>
                <a:latin typeface="Gill San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s usual, also get equations for time coefficients of POD mod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B7CA-D4F3-401E-9C81-F21D26A0D3B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848720" y="3314880"/>
            <a:ext cx="2361960" cy="799920"/>
          </a:xfrm>
          <a:prstGeom prst="rect">
            <a:avLst/>
          </a:prstGeom>
          <a:solidFill>
            <a:srgbClr val="ff00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Scaling basis function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1294920"/>
            <a:ext cx="1046484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495000" indent="-3960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Write solution in scaled reference fram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950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950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95000" indent="-3960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hoose                             :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95000" indent="-3960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xpand scaled variable    in terms of POD mo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2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95000" indent="-3960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dvantage of the scaling: capture similar-looking structures as shear layer spread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95000" indent="-3960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dvantage of divergence-invariant mapping: auto-satisfy continuity equation; simplify pressure ter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584600" y="2712960"/>
            <a:ext cx="4508640" cy="3859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778360" y="2052720"/>
            <a:ext cx="1447920" cy="3729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3873600" y="3276720"/>
            <a:ext cx="3098880" cy="927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7975440" y="3578400"/>
            <a:ext cx="2121120" cy="3459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6286680" y="4257720"/>
            <a:ext cx="215640" cy="3398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2925720" y="4863960"/>
            <a:ext cx="5699160" cy="10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BA5D-93E5-45B6-8D64-94BCDDBC03F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1269720" y="1320480"/>
            <a:ext cx="10464840" cy="792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521280" indent="-407880">
              <a:lnSpc>
                <a:spcPct val="100000"/>
              </a:lnSpc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How do we choose the scaling g(t)?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17000" indent="-3387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hoose g(t) so that              lines up best with a preselected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</a:rPr>
              <a:t>template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(here, the base flow)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1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1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1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17000" indent="-3387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s means the scaled solution              satisfi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1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1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17000" indent="-3387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eometrically, the set of all “properly scaled” functions    is an affine space through     and orthogonal to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17000" indent="-33876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s enables one to write dynamics for how the thickness g(t) evolves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Template fitting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5613480" y="1978200"/>
            <a:ext cx="1270080" cy="3711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3556080" y="2906640"/>
            <a:ext cx="5879880" cy="916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7277040" y="4505400"/>
            <a:ext cx="1270080" cy="3715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4952880" y="5022720"/>
            <a:ext cx="3086280" cy="8445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11036160" y="6083280"/>
            <a:ext cx="203400" cy="3189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6"/>
          <a:stretch/>
        </p:blipFill>
        <p:spPr>
          <a:xfrm>
            <a:off x="6083280" y="6583320"/>
            <a:ext cx="380880" cy="2620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7"/>
          <a:stretch/>
        </p:blipFill>
        <p:spPr>
          <a:xfrm>
            <a:off x="9563040" y="6499080"/>
            <a:ext cx="1041480" cy="4352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8"/>
          <a:stretch/>
        </p:blipFill>
        <p:spPr>
          <a:xfrm>
            <a:off x="4813200" y="7575480"/>
            <a:ext cx="3378240" cy="10605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5806080" y="3729960"/>
            <a:ext cx="5520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for any cur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D026-0C9E-4DA0-99E2-595D319AB13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08640" y="7353360"/>
            <a:ext cx="3987720" cy="1511280"/>
          </a:xfrm>
          <a:prstGeom prst="rect">
            <a:avLst/>
          </a:prstGeom>
          <a:solidFill>
            <a:srgbClr val="fbdfa8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Equation for evolution of the thicknes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571320" indent="-45684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How does g(t) evolve in time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-3427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We have a constraint (              lines up best with template     )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-3427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ifferentiate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-3427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Use equations of mo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28520" indent="-3427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s gives an equation for g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813200" y="7575480"/>
            <a:ext cx="3378240" cy="10605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4851360" y="2660760"/>
            <a:ext cx="3344760" cy="9144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5037120" y="4051440"/>
            <a:ext cx="2913120" cy="9522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>
            <a:off x="2990880" y="5727600"/>
            <a:ext cx="7016760" cy="8254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5"/>
          <a:stretch/>
        </p:blipFill>
        <p:spPr>
          <a:xfrm>
            <a:off x="5460840" y="2028960"/>
            <a:ext cx="127008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6"/>
          <a:stretch/>
        </p:blipFill>
        <p:spPr>
          <a:xfrm>
            <a:off x="11138040" y="2100240"/>
            <a:ext cx="380880" cy="2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0742-F664-456B-82A2-131CF10214B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Galerkin equations for the shear layer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1320480"/>
            <a:ext cx="10464840" cy="775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482400" indent="-3859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quation for the POD mode coefficients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68680" indent="-2894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tain only modes k=1, n=1 and 2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824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824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824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824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82400" indent="-3859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quation for the scaling g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824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82400" indent="-3859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etaining modes k=1 and 2, n=1 and 2 also tractable, but mess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482400" indent="-3859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Use inner product that is preserved under scaling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954080" y="4127400"/>
            <a:ext cx="9410760" cy="14893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955880" y="2620800"/>
            <a:ext cx="9423360" cy="14940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1701720" y="6159600"/>
            <a:ext cx="9931320" cy="7142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3909960" y="8699400"/>
            <a:ext cx="5504040" cy="7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9CE2-9A8E-45FF-9E2F-B593164C81A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ase flow with small perturb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Base flow: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erturbation is along the unstable eigenfunction of the linearized problem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sider three separate cas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 perturbation: viscous growth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itial perturbation with k=1: vortex roll-up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Initial perturbation with k=2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587600" indent="-3812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vortex roll-up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587600" indent="-3812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air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587600" indent="-3812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k=1 mode arises through pair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Result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860640" y="2031840"/>
            <a:ext cx="2654640" cy="8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9C26-C56A-4EF0-A104-416880EE2AB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odel results: k=0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Only one equation left for g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350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350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ecovers exact theoretical growth rate for Stokes problem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3336840" y="3530520"/>
            <a:ext cx="6670800" cy="59310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3238560" y="6031080"/>
            <a:ext cx="507960" cy="9414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6218640" y="9015480"/>
            <a:ext cx="910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Gill Sans"/>
              </a:rPr>
              <a:t>Time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2666880" y="2070000"/>
            <a:ext cx="1930680" cy="8254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4"/>
          <a:stretch/>
        </p:blipFill>
        <p:spPr>
          <a:xfrm>
            <a:off x="6286680" y="2133720"/>
            <a:ext cx="3530520" cy="10792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5"/>
          <a:stretch/>
        </p:blipFill>
        <p:spPr>
          <a:xfrm>
            <a:off x="2616120" y="2946240"/>
            <a:ext cx="1409760" cy="4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A54C-AA41-44CF-9493-517C525A4BE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owley MFO talk.ppt_media/shear_dns_10fps-15.mov" descr=""/>
          <p:cNvPicPr/>
          <p:nvPr/>
        </p:nvPicPr>
        <p:blipFill>
          <a:blip r:embed="rId1"/>
          <a:stretch/>
        </p:blipFill>
        <p:spPr>
          <a:xfrm>
            <a:off x="2374920" y="3395520"/>
            <a:ext cx="8242200" cy="61581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Example: free shear layer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hallenge: find a low-dimensional model of a temporally evolving free shear laye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avier-Stokes equations in a domain periodic in x, infinite in 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henomena: exponential growth, nonlinear saturation, pairing, decay to self-similar solu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210F-F7DB-4275-BF9C-73E3ACDF3A5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ovie of DN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itial condition with k=1 (Re = 200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9" name="Rowley MFO talk.ppt_media/k1vort-5.mov" descr=""/>
          <p:cNvPicPr/>
          <p:nvPr/>
        </p:nvPicPr>
        <p:blipFill>
          <a:blip r:embed="rId1"/>
          <a:stretch/>
        </p:blipFill>
        <p:spPr>
          <a:xfrm>
            <a:off x="50760" y="2324160"/>
            <a:ext cx="8585280" cy="63118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7835760" y="3147840"/>
            <a:ext cx="5473800" cy="48675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9975240" y="7629840"/>
            <a:ext cx="942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823160" y="4140360"/>
            <a:ext cx="571680" cy="9014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8678880" y="6568200"/>
            <a:ext cx="124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9701640" y="5259960"/>
            <a:ext cx="174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atu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11095200" y="3281400"/>
            <a:ext cx="14698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Viscou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3B64-B734-4A97-B401-9D214430E7F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owley MFO talk.ppt_media/shear_dns_10fps-15.mov" descr=""/>
          <p:cNvPicPr/>
          <p:nvPr/>
        </p:nvPicPr>
        <p:blipFill>
          <a:blip r:embed="rId1"/>
          <a:stretch/>
        </p:blipFill>
        <p:spPr>
          <a:xfrm>
            <a:off x="-393840" y="2413080"/>
            <a:ext cx="8585280" cy="6413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ovie of DN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106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itial condition with k=2 (Re = 200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7696080" y="3083040"/>
            <a:ext cx="5715000" cy="50832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9975240" y="7629840"/>
            <a:ext cx="942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7823160" y="4140360"/>
            <a:ext cx="571680" cy="9014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8539200" y="7050600"/>
            <a:ext cx="124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8685360" y="6669720"/>
            <a:ext cx="174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atu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029880" y="6022080"/>
            <a:ext cx="2833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Pairing &amp; grow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10069920" y="5412600"/>
            <a:ext cx="174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atu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10858680" y="3098880"/>
            <a:ext cx="214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Viscous diffu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2577600" y="2342880"/>
            <a:ext cx="26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k=2 simul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BB4F-C96A-4B77-B1AB-F490EAA9C1B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POD mode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539640" indent="-43164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nergy contained in modes (k=1 initial condition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-3236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Zero mode contains very little energy - scaling was effective at removing the mean spreading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984400" y="2108160"/>
          <a:ext cx="7021440" cy="3733920"/>
        </p:xfrm>
        <a:graphic>
          <a:graphicData uri="http://schemas.openxmlformats.org/drawingml/2006/table">
            <a:tbl>
              <a:tblPr/>
              <a:tblGrid>
                <a:gridCol w="2340000"/>
                <a:gridCol w="2341440"/>
                <a:gridCol w="2340000"/>
              </a:tblGrid>
              <a:tr h="1229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(k,n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lambda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Energy (%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(1,1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130.3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91.0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(1, 2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6.8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4.8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(2, 1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4.5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3.1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all k=0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0.4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617C-B76F-4CC4-BF53-686DC9947A8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POD mode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itial condition with k=1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876240" y="2006640"/>
            <a:ext cx="4444920" cy="391932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6515280" y="2006640"/>
            <a:ext cx="4444920" cy="39193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876240" y="5715000"/>
            <a:ext cx="4444920" cy="39196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6515280" y="5715000"/>
            <a:ext cx="4444920" cy="39196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336760" y="189216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1, n=1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848720" y="189216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1, n=1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567648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1, n=2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7848720" y="567648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1, n=2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1273680" y="2476080"/>
            <a:ext cx="1072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3477960" y="2476080"/>
            <a:ext cx="1110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6962760" y="2476080"/>
            <a:ext cx="1023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165960" y="2476080"/>
            <a:ext cx="1061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1273680" y="6133680"/>
            <a:ext cx="1072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3477960" y="6133680"/>
            <a:ext cx="1110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962760" y="6133680"/>
            <a:ext cx="1023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9165960" y="6133680"/>
            <a:ext cx="1061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60DD-B9A8-429F-9E3A-E81A1E1F513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POD mode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539640" indent="-43164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nergy contained in modes (k=2 initial condition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396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-3236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caling still effective at removing the mean spreading (zero mode has small energy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984400" y="2108160"/>
          <a:ext cx="7021440" cy="3733920"/>
        </p:xfrm>
        <a:graphic>
          <a:graphicData uri="http://schemas.openxmlformats.org/drawingml/2006/table">
            <a:tbl>
              <a:tblPr/>
              <a:tblGrid>
                <a:gridCol w="2340000"/>
                <a:gridCol w="2341440"/>
                <a:gridCol w="2340000"/>
              </a:tblGrid>
              <a:tr h="1229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(k,n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lambda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Energy (%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(1,1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27.5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40.1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(2,1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37.9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55.2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(1,2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0.9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1.3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(2,2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1.6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2.3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all k=0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Gill Sans"/>
                          <a:ea typeface="华文细黑"/>
                        </a:rPr>
                        <a:t>0.6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F3D7-7EBC-4B33-AB3B-2229A231994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876240" y="1827360"/>
            <a:ext cx="4444920" cy="39211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6515280" y="1827360"/>
            <a:ext cx="4444920" cy="39211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6515280" y="5575320"/>
            <a:ext cx="4444920" cy="39196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4"/>
          <a:stretch/>
        </p:blipFill>
        <p:spPr>
          <a:xfrm>
            <a:off x="876240" y="5575320"/>
            <a:ext cx="4444920" cy="391968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POD mode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itial condition with k=2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2336760" y="189216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1, n=1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7848720" y="189216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1, n=1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2209680" y="567648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2, n=1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848720" y="567648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2, n=1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1273680" y="2476080"/>
            <a:ext cx="1072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477960" y="2476080"/>
            <a:ext cx="1110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6962760" y="2476080"/>
            <a:ext cx="1023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9165960" y="2476080"/>
            <a:ext cx="1061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1273680" y="6133680"/>
            <a:ext cx="1072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3477960" y="6133680"/>
            <a:ext cx="1110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6962760" y="6133680"/>
            <a:ext cx="1023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9165960" y="6133680"/>
            <a:ext cx="1061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F310-EF8B-437B-9006-401FFB51FAC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itial condition with k=2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6515280" y="5689440"/>
            <a:ext cx="4444920" cy="39196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876240" y="5689440"/>
            <a:ext cx="4444920" cy="391968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6515280" y="2043000"/>
            <a:ext cx="4444920" cy="3921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4"/>
          <a:stretch/>
        </p:blipFill>
        <p:spPr>
          <a:xfrm>
            <a:off x="977760" y="2043000"/>
            <a:ext cx="4445280" cy="392112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POD mode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2336760" y="189216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1, n=2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7848720" y="189216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1, n=2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2209680" y="567648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2, n=2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848720" y="5676480"/>
            <a:ext cx="1765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06e22"/>
                </a:solidFill>
                <a:latin typeface="Gill Sans"/>
                <a:ea typeface="Gill Sans"/>
              </a:rPr>
              <a:t>k=2, n=2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1273680" y="2476080"/>
            <a:ext cx="1072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3477960" y="2476080"/>
            <a:ext cx="1110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6962760" y="2476080"/>
            <a:ext cx="1023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9165960" y="2476080"/>
            <a:ext cx="1061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1273680" y="6133680"/>
            <a:ext cx="1072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3477960" y="6133680"/>
            <a:ext cx="1110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u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6962760" y="6133680"/>
            <a:ext cx="1023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Re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9165960" y="6133680"/>
            <a:ext cx="1061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Im(v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E88C-AAE1-4815-AEAE-BD5B0A8E8DD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Full simulation vs. projection onto POD mode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mparison of direct numerical simulation, and projection onto four complex POD mo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Rowley MFO talk.ppt_media/shear_dns_10fps-15.mov" descr=""/>
          <p:cNvPicPr/>
          <p:nvPr/>
        </p:nvPicPr>
        <p:blipFill>
          <a:blip r:embed="rId1"/>
          <a:stretch/>
        </p:blipFill>
        <p:spPr>
          <a:xfrm>
            <a:off x="304920" y="3246480"/>
            <a:ext cx="6362640" cy="4754520"/>
          </a:xfrm>
          <a:prstGeom prst="rect">
            <a:avLst/>
          </a:prstGeom>
          <a:ln w="0">
            <a:noFill/>
          </a:ln>
        </p:spPr>
      </p:pic>
      <p:pic>
        <p:nvPicPr>
          <p:cNvPr id="661" name="Rowley MFO talk.ppt_media/shear_dns_proj.mov" descr=""/>
          <p:cNvPicPr/>
          <p:nvPr/>
        </p:nvPicPr>
        <p:blipFill>
          <a:blip r:embed="rId2"/>
          <a:stretch/>
        </p:blipFill>
        <p:spPr>
          <a:xfrm>
            <a:off x="6254640" y="3124080"/>
            <a:ext cx="6699240" cy="500400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2391120" y="3308040"/>
            <a:ext cx="262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Full simul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F75F-304F-428B-9F32-3C28AF1C6B6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Full simulation vs. reduced-order model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mparison of direct numerical simulation, and reduced-order model using four complex POD mo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5" name="Rowley MFO talk.ppt_media/shear_dns_10fps-15.mov" descr=""/>
          <p:cNvPicPr/>
          <p:nvPr/>
        </p:nvPicPr>
        <p:blipFill>
          <a:blip r:embed="rId1"/>
          <a:stretch/>
        </p:blipFill>
        <p:spPr>
          <a:xfrm>
            <a:off x="304920" y="3246480"/>
            <a:ext cx="6362640" cy="47545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2391120" y="3308040"/>
            <a:ext cx="262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Full simul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7" name="Rowley MFO talk.ppt_media/shear_model.mov" descr=""/>
          <p:cNvPicPr/>
          <p:nvPr/>
        </p:nvPicPr>
        <p:blipFill>
          <a:blip r:embed="rId2"/>
          <a:stretch/>
        </p:blipFill>
        <p:spPr>
          <a:xfrm>
            <a:off x="6248520" y="3206880"/>
            <a:ext cx="6451560" cy="481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CABA-C61E-4328-9E30-F5DF10FBFAB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1270080" y="1320480"/>
            <a:ext cx="51307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ckness and amplitude of POD modes for k=1 initial condition: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</a:rPr>
              <a:t>projection of full simul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odel results: k=1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320840" y="2755800"/>
            <a:ext cx="5715000" cy="508176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1292400" y="5651640"/>
            <a:ext cx="460080" cy="7254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660920" y="3759120"/>
            <a:ext cx="1066680" cy="3700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6985080" y="1320840"/>
            <a:ext cx="496548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4720" indent="-5047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4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Thickness and amplitude of POD modes for k=1 initial condition: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  <a:ea typeface="Gill Sans"/>
              </a:rPr>
              <a:t>low-dimensional mod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4660920" y="4572000"/>
            <a:ext cx="1066680" cy="3697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6718320" y="2741760"/>
            <a:ext cx="5727600" cy="50940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486080" y="7778880"/>
            <a:ext cx="9613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Gill Sans"/>
                <a:ea typeface="Gill Sans"/>
              </a:rPr>
              <a:t>Phase shift phenomenon</a:t>
            </a:r>
            <a:r>
              <a:rPr b="0" lang="en-US" sz="3400" spc="-1" strike="noStrike">
                <a:solidFill>
                  <a:srgbClr val="000000"/>
                </a:solidFill>
                <a:latin typeface="Gill Sans"/>
                <a:ea typeface="Gill Sans"/>
              </a:rPr>
              <a:t>: Modes 1 and 2 are out of phase during linear growth, in phase after satura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0544-4ADD-4EBD-A66D-2A125F33B43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Exact self-similar solution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xact solution well know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87" name="Rowley MFO talk.ppt_media/shlayer-5.mov" descr=""/>
          <p:cNvPicPr/>
          <p:nvPr/>
        </p:nvPicPr>
        <p:blipFill>
          <a:blip r:embed="rId1"/>
          <a:stretch/>
        </p:blipFill>
        <p:spPr>
          <a:xfrm>
            <a:off x="6222960" y="4443480"/>
            <a:ext cx="6286680" cy="4726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936960" y="2070000"/>
            <a:ext cx="5143680" cy="2057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981080" y="4648320"/>
            <a:ext cx="2819520" cy="863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14680" y="6045120"/>
            <a:ext cx="4012920" cy="673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1727280" y="6819840"/>
            <a:ext cx="1143000" cy="3556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4165560"/>
            <a:ext cx="3073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Similarity variab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5448240"/>
            <a:ext cx="1689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"/>
          <p:cNvSpPr/>
          <p:nvPr/>
        </p:nvSpPr>
        <p:spPr>
          <a:xfrm>
            <a:off x="622440" y="7658280"/>
            <a:ext cx="3352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[Landau &amp; Lifschitz]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"/>
          <p:cNvSpPr/>
          <p:nvPr/>
        </p:nvSpPr>
        <p:spPr>
          <a:xfrm>
            <a:off x="9398160" y="2508120"/>
            <a:ext cx="3073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eriodic (constant) in 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in 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B658-F008-4B32-9319-1D31D8B5FD4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1270080" y="1320480"/>
            <a:ext cx="51307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hase delay between the first 2 POD modes: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</a:rPr>
              <a:t>projection of full simul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odel results: k=1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79" name=""/>
          <p:cNvSpPr/>
          <p:nvPr/>
        </p:nvSpPr>
        <p:spPr>
          <a:xfrm>
            <a:off x="6985080" y="1320840"/>
            <a:ext cx="496548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4720" indent="-5047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4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Phase delay between the first 2 Pod modes: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  <a:ea typeface="Gill Sans"/>
              </a:rPr>
              <a:t>low-dimensional mod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031840" y="3478320"/>
            <a:ext cx="4572000" cy="42940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1542960" y="4559400"/>
            <a:ext cx="488880" cy="212076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378560" y="3503520"/>
            <a:ext cx="4534200" cy="42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8963-F255-49A1-9AC8-B06DAC9E621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1270080" y="1320480"/>
            <a:ext cx="51307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ckness and amplitude of POD modes for k=2 initial condition: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</a:rPr>
              <a:t>projection of full simul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odel results: k=2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355760" y="5854680"/>
            <a:ext cx="460440" cy="7254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5219640" y="3594240"/>
            <a:ext cx="1067040" cy="3697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985080" y="1320840"/>
            <a:ext cx="496548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4720" indent="-5047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4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Thickness and amplitude of POD modes for k=2 initial condition: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  <a:ea typeface="Gill Sans"/>
              </a:rPr>
              <a:t>low-dimensional mod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>
            <a:off x="5219640" y="4152960"/>
            <a:ext cx="1067040" cy="3697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4"/>
          <a:stretch/>
        </p:blipFill>
        <p:spPr>
          <a:xfrm>
            <a:off x="1357200" y="2743200"/>
            <a:ext cx="5742000" cy="51055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5"/>
          <a:stretch/>
        </p:blipFill>
        <p:spPr>
          <a:xfrm>
            <a:off x="3181320" y="5118120"/>
            <a:ext cx="996840" cy="34452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6"/>
          <a:stretch/>
        </p:blipFill>
        <p:spPr>
          <a:xfrm>
            <a:off x="3162240" y="4579920"/>
            <a:ext cx="1041480" cy="3618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7"/>
          <a:stretch/>
        </p:blipFill>
        <p:spPr>
          <a:xfrm>
            <a:off x="6794640" y="2738520"/>
            <a:ext cx="5740200" cy="51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C4B1-D6F3-4AB1-9CD3-6220B6EE579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Example: control of Kuramoto-Sivashinsky equation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3000"/>
          </a:bodyPr>
          <a:p>
            <a:pPr marL="463320" indent="-3708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o the same procedure with a control inpu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ssume control action is equivarian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tabilize relative equilibri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-277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Kuramoto-Sivashinsky equ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3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58840" indent="-2782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tabilize family of fixed poin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58840" indent="-2782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tabilize a traveling wave solu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58840" indent="-2782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e poster by Sunil Ahuja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4788000" y="2171880"/>
            <a:ext cx="3429000" cy="50796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3683160" y="3822840"/>
            <a:ext cx="5638680" cy="5331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3"/>
          <a:stretch/>
        </p:blipFill>
        <p:spPr>
          <a:xfrm>
            <a:off x="2565360" y="6058080"/>
            <a:ext cx="844560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697E-2971-4466-A1E4-22CF6122B71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K-S equation: stabilize a fixed point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0" name="Rowley MFO talk.ppt_media/ks_fixed_point-1.mov" descr=""/>
          <p:cNvPicPr/>
          <p:nvPr/>
        </p:nvPicPr>
        <p:blipFill>
          <a:blip r:embed="rId1"/>
          <a:stretch/>
        </p:blipFill>
        <p:spPr>
          <a:xfrm>
            <a:off x="2514600" y="1879560"/>
            <a:ext cx="7975440" cy="598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7DC9-D31E-4C8D-BAB8-122953F4F53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KS equation: stabilize a traveling wave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3" name="Rowley MFO talk.ppt_media/KS_traveling_wave-1.mov" descr=""/>
          <p:cNvPicPr/>
          <p:nvPr/>
        </p:nvPicPr>
        <p:blipFill>
          <a:blip r:embed="rId1"/>
          <a:stretch/>
        </p:blipFill>
        <p:spPr>
          <a:xfrm>
            <a:off x="2533680" y="1903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BE50-B2A7-45DD-9074-1FE1E1FC1CF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1270080" y="1320480"/>
            <a:ext cx="5130720" cy="716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hase delay between the first 2 POD modes: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</a:rPr>
              <a:t>projection of full simul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odel results: k=2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706" name=""/>
          <p:cNvSpPr/>
          <p:nvPr/>
        </p:nvSpPr>
        <p:spPr>
          <a:xfrm>
            <a:off x="6985080" y="1320840"/>
            <a:ext cx="496548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4720" indent="-50472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4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Phase delay between the first 2 Pod modes: </a:t>
            </a:r>
            <a:r>
              <a:rPr b="0" lang="en-US" sz="3000" spc="-1" strike="noStrike">
                <a:solidFill>
                  <a:srgbClr val="008000"/>
                </a:solidFill>
                <a:latin typeface="Gill Sans"/>
                <a:ea typeface="Gill Sans"/>
              </a:rPr>
              <a:t>low-dimensional mod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889280" y="3517920"/>
            <a:ext cx="4803480" cy="421632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1574640" y="4749840"/>
            <a:ext cx="432000" cy="17510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7182000" y="3429000"/>
            <a:ext cx="4819680" cy="439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A852-BFD5-4DD9-B50A-740D8C97C43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Summary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826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5025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odel reduc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31480" indent="-376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ain idea: project dynamics onto a smaller-dimensional subsp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31480" indent="-376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wo choices: subspace itself, and the direction of projection (i.e., the inner product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31480" indent="-376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oper orthogonal decomposition is one method of determining a subsp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31480" indent="-376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Balanced truncation (linear systems) determines an inner product as well, and usually works much better than PO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5025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ynamically scaled mo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31480" indent="-376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ymmetry reduction scales self-similar solutions appropriatel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31480" indent="-376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ynamic scaling decreases number of modes required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31480" indent="-37692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emporal shear layer dynamics modeled with 4 complex modes, including linear growth, saturation, pairing, and viscous diffus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A6EF-DC37-444E-811E-4DC99411C830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ek an analogous change of coordinates that simplifies the solution for more complex dynamic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Main idea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71680" y="1727280"/>
            <a:ext cx="4457520" cy="5767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16200000">
            <a:off x="537480" y="5029560"/>
            <a:ext cx="140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"/>
          <p:cNvSpPr/>
          <p:nvPr/>
        </p:nvSpPr>
        <p:spPr>
          <a:xfrm>
            <a:off x="3183840" y="7112880"/>
            <a:ext cx="70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0"/>
            <a:ext cx="10739520" cy="7478640"/>
            <a:chOff x="0" y="0"/>
            <a:chExt cx="10739520" cy="7478640"/>
          </a:xfrm>
        </p:grpSpPr>
        <p:grpSp>
          <p:nvGrpSpPr>
            <p:cNvPr id="302" name=""/>
            <p:cNvGrpSpPr/>
            <p:nvPr/>
          </p:nvGrpSpPr>
          <p:grpSpPr>
            <a:xfrm>
              <a:off x="0" y="0"/>
              <a:ext cx="10739520" cy="5232240"/>
              <a:chOff x="0" y="0"/>
              <a:chExt cx="10739520" cy="5232240"/>
            </a:xfrm>
          </p:grpSpPr>
          <p:pic>
            <p:nvPicPr>
              <p:cNvPr id="3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6845400" cy="52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7611480" y="4645440"/>
                <a:ext cx="3128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8000"/>
                    </a:solidFill>
                    <a:latin typeface="Gill Sans"/>
                    <a:ea typeface="Gill Sans"/>
                  </a:rPr>
                  <a:t>Complex solution</a:t>
                </a:r>
                <a:endParaRPr b="0" lang="en-US" sz="3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8822520" y="7112520"/>
              <a:ext cx="70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630800" y="2635200"/>
            <a:ext cx="353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Gill Sans"/>
                <a:ea typeface="Gill Sans"/>
              </a:rPr>
              <a:t>Self-similar solu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17520" y="139680"/>
            <a:ext cx="4800600" cy="8686800"/>
            <a:chOff x="317520" y="139680"/>
            <a:chExt cx="4800600" cy="8686800"/>
          </a:xfrm>
        </p:grpSpPr>
        <p:sp>
          <p:nvSpPr>
            <p:cNvPr id="308" name=""/>
            <p:cNvSpPr/>
            <p:nvPr/>
          </p:nvSpPr>
          <p:spPr>
            <a:xfrm>
              <a:off x="1676520" y="7683480"/>
              <a:ext cx="3441600" cy="1143000"/>
            </a:xfrm>
            <a:prstGeom prst="rect">
              <a:avLst/>
            </a:prstGeom>
            <a:solidFill>
              <a:srgbClr val="eae7d3"/>
            </a:solidFill>
            <a:ln w="25560">
              <a:solidFill>
                <a:srgbClr val="000000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317520" y="139680"/>
              <a:ext cx="281952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"/>
          <p:cNvGrpSpPr/>
          <p:nvPr/>
        </p:nvGrpSpPr>
        <p:grpSpPr>
          <a:xfrm>
            <a:off x="438120" y="203040"/>
            <a:ext cx="10906920" cy="9168120"/>
            <a:chOff x="438120" y="203040"/>
            <a:chExt cx="10906920" cy="9168120"/>
          </a:xfrm>
        </p:grpSpPr>
        <p:grpSp>
          <p:nvGrpSpPr>
            <p:cNvPr id="311" name=""/>
            <p:cNvGrpSpPr/>
            <p:nvPr/>
          </p:nvGrpSpPr>
          <p:grpSpPr>
            <a:xfrm>
              <a:off x="438120" y="203040"/>
              <a:ext cx="9561600" cy="8433000"/>
              <a:chOff x="438120" y="203040"/>
              <a:chExt cx="9561600" cy="8433000"/>
            </a:xfrm>
          </p:grpSpPr>
          <p:sp>
            <p:nvSpPr>
              <p:cNvPr id="312" name=""/>
              <p:cNvSpPr/>
              <p:nvPr/>
            </p:nvSpPr>
            <p:spPr>
              <a:xfrm>
                <a:off x="7662960" y="7873920"/>
                <a:ext cx="2336760" cy="762120"/>
              </a:xfrm>
              <a:prstGeom prst="rect">
                <a:avLst/>
              </a:prstGeom>
              <a:solidFill>
                <a:srgbClr val="eae7d3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76367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pic>
            <p:nvPicPr>
              <p:cNvPr id="3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8120" y="203040"/>
                <a:ext cx="147312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4" name=""/>
            <p:cNvSpPr/>
            <p:nvPr/>
          </p:nvSpPr>
          <p:spPr>
            <a:xfrm>
              <a:off x="6322680" y="9005040"/>
              <a:ext cx="502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ind g(t) using symmetry reducti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D836-EC16-4C7F-BEF3-7B184EC511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Outline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odel reduc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alerkin proje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oper Orthogonal Decomposi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Balanced trunc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linearized channel flow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50796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ymmetry reduction using template fitt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presenting the quotient space using slice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ynamics on the sli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Reconstruction equa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143000" indent="-38088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Example: free shear layer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77320" y="2006640"/>
            <a:ext cx="3746520" cy="13618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rcRect l="7089" t="3642" r="1151" b="0"/>
          <a:stretch/>
        </p:blipFill>
        <p:spPr>
          <a:xfrm>
            <a:off x="8377200" y="5905440"/>
            <a:ext cx="315432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271A-A0EA-4897-8036-BEDE192BCB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Galerkin projection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8000"/>
          </a:bodyPr>
          <a:p>
            <a:pPr lvl="1" marL="777240" indent="-2588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ynamics evolve on a high-dimensional space (or infinite-dim’l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-2588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oject dynamics onto a low-dimensional subspace 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-2588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fine dynamics on the subspace by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777240" indent="-2588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wo choices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79280" indent="-2592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hoice of subspac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79280" indent="-2592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hoice of inner product</a:t>
            </a:r>
            <a:br>
              <a:rPr sz="3000"/>
            </a:b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(equivalently, choice of the nullspace for a non-orthogonal projection)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408720" y="2857680"/>
            <a:ext cx="47293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0" y="0"/>
            <a:ext cx="9742320" cy="5519520"/>
            <a:chOff x="0" y="0"/>
            <a:chExt cx="9742320" cy="5519520"/>
          </a:xfrm>
        </p:grpSpPr>
        <p:sp>
          <p:nvSpPr>
            <p:cNvPr id="323" name=""/>
            <p:cNvSpPr/>
            <p:nvPr/>
          </p:nvSpPr>
          <p:spPr>
            <a:xfrm>
              <a:off x="7929360" y="3036960"/>
              <a:ext cx="898560" cy="1225440"/>
            </a:xfrm>
            <a:prstGeom prst="line">
              <a:avLst/>
            </a:prstGeom>
            <a:ln w="38160">
              <a:solidFill>
                <a:srgbClr val="e16e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43760" y="4294080"/>
              <a:ext cx="898560" cy="1225440"/>
            </a:xfrm>
            <a:prstGeom prst="line">
              <a:avLst/>
            </a:prstGeom>
            <a:ln w="38160">
              <a:solidFill>
                <a:srgbClr val="e16e2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"/>
          <p:cNvGrpSpPr/>
          <p:nvPr/>
        </p:nvGrpSpPr>
        <p:grpSpPr>
          <a:xfrm>
            <a:off x="1001880" y="314280"/>
            <a:ext cx="8867880" cy="3924000"/>
            <a:chOff x="1001880" y="314280"/>
            <a:chExt cx="8867880" cy="3924000"/>
          </a:xfrm>
        </p:grpSpPr>
        <p:sp>
          <p:nvSpPr>
            <p:cNvPr id="327" name=""/>
            <p:cNvSpPr/>
            <p:nvPr/>
          </p:nvSpPr>
          <p:spPr>
            <a:xfrm flipH="1">
              <a:off x="8839080" y="3719880"/>
              <a:ext cx="1023120" cy="518400"/>
            </a:xfrm>
            <a:prstGeom prst="line">
              <a:avLst/>
            </a:prstGeom>
            <a:ln w="38160">
              <a:solidFill>
                <a:srgbClr val="e16e2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501480" y="3316320"/>
              <a:ext cx="368280" cy="449640"/>
            </a:xfrm>
            <a:prstGeom prst="line">
              <a:avLst/>
            </a:prstGeom>
            <a:ln w="12600">
              <a:solidFill>
                <a:srgbClr val="e16e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3"/>
            <a:stretch/>
          </p:blipFill>
          <p:spPr>
            <a:xfrm>
              <a:off x="1001880" y="314280"/>
              <a:ext cx="93960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7689600" y="6127560"/>
            <a:ext cx="251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  <a:ea typeface="Gill Sans"/>
              </a:rPr>
              <a:t>is a proje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5702400" y="6210360"/>
            <a:ext cx="1930320" cy="3556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3174840" y="6184800"/>
            <a:ext cx="1854360" cy="419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2451240" y="4216320"/>
            <a:ext cx="1714320" cy="3049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7"/>
          <a:stretch/>
        </p:blipFill>
        <p:spPr>
          <a:xfrm>
            <a:off x="4584600" y="3149640"/>
            <a:ext cx="990720" cy="3049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8"/>
          <a:stretch/>
        </p:blipFill>
        <p:spPr>
          <a:xfrm>
            <a:off x="2425680" y="3111480"/>
            <a:ext cx="146052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334A-F47F-442F-994A-1D96CD7631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495000" indent="-3960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Obtain “optimal” basis for the subspace, from dat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2970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ather data, as “snapshots” u(x,t) from simulations or experimen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2970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etermine orthonormal basis functions that optimally span the data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2970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inimize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2970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olution: SVD of the matrix of snapshot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marL="495000" indent="-39600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imitat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2970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ptimal for capturing a given dataset, not necessarily dynamic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2970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Low-energy modes may be important to the dynamic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2970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OD says nothing about which inner product you should us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3251160"/>
            <a:ext cx="3225960" cy="2679840"/>
          </a:xfrm>
          <a:prstGeom prst="rect">
            <a:avLst/>
          </a:prstGeom>
          <a:solidFill>
            <a:srgbClr val="eae7d3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Proper Orthogonal Decomposition (POD)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39" name=""/>
          <p:cNvSpPr/>
          <p:nvPr/>
        </p:nvSpPr>
        <p:spPr>
          <a:xfrm>
            <a:off x="9444240" y="4166640"/>
            <a:ext cx="169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OD mod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690120" y="3606840"/>
            <a:ext cx="1206360" cy="4316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64040" y="3314880"/>
            <a:ext cx="4343400" cy="1218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3568680" y="4775040"/>
            <a:ext cx="3873600" cy="1016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9131400" y="5054760"/>
            <a:ext cx="233676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34F5-CBF1-406D-B23F-C8EAC1C570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23600" y="254160"/>
            <a:ext cx="1155708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6e23"/>
                </a:solidFill>
                <a:latin typeface="Gill Sans"/>
              </a:rPr>
              <a:t>Energy-based inner products</a:t>
            </a:r>
            <a:endParaRPr b="0" lang="en-US" sz="4000" spc="-1" strike="noStrike">
              <a:solidFill>
                <a:srgbClr val="e16e23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3600" y="1206360"/>
            <a:ext cx="11557080" cy="7747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539640" indent="-431640">
              <a:lnSpc>
                <a:spcPct val="100000"/>
              </a:lnSpc>
              <a:spcBef>
                <a:spcPts val="1400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educed-order models can behave unpredictabl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-3236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even change stability type of equilibri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[Rempfer, Thoret. CFD 2000]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-3236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mple example: consider the system: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-3236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nk at the origi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-3236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Projection on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6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 axis i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71280" indent="-32364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an at least fix this simple problem by changing the inner product used for the projectio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349280" indent="-3240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Gill Sans"/>
              </a:rPr>
              <a:t>Cute result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: If an orthogonal projection is used with an “energy-based” inner product, this will ensure stability of the origin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349280" indent="-324000">
              <a:lnSpc>
                <a:spcPct val="100000"/>
              </a:lnSpc>
              <a:spcBef>
                <a:spcPts val="601"/>
              </a:spcBef>
              <a:buClr>
                <a:srgbClr val="e16e23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Note: does not guarantee stability preserved for other equilibrium points, periodic orbits, etc.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793960" y="3454560"/>
            <a:ext cx="4572000" cy="939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8267760" y="2476440"/>
            <a:ext cx="3822480" cy="303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203720" y="5587920"/>
            <a:ext cx="1282680" cy="343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5743800" y="5505120"/>
            <a:ext cx="155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16e23"/>
                </a:solidFill>
                <a:latin typeface="Gill Sans"/>
                <a:ea typeface="Gill Sans"/>
              </a:rPr>
              <a:t>unstable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"/>
          <p:cNvSpPr/>
          <p:nvPr/>
        </p:nvSpPr>
        <p:spPr>
          <a:xfrm>
            <a:off x="3252960" y="9106920"/>
            <a:ext cx="653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[Rowley, T Colonius, RM Murray, Phys D 2004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0839600" y="3394080"/>
            <a:ext cx="336240" cy="60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1436480" y="3225960"/>
            <a:ext cx="449280" cy="771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9312120" y="3971520"/>
            <a:ext cx="346320" cy="615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8567640" y="3971880"/>
            <a:ext cx="519120" cy="92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ADC4-A1E5-4CFB-960D-CA0C24A14A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